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0F5-33F1-4EF3-88BB-1F7F9744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644-39EC-421A-8856-4B18ECD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BE6-4EA1-4C2D-B6F7-DD527682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5C2-7907-43E4-BB21-CCF83ACA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E5B-82DA-4C3E-97A5-1B4AAAE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698-3421-4C65-A215-E6E0C06A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586-28D8-4667-8F4E-77031CE0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6E6-464F-49CF-B170-584B7CF9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E9B-9E31-48BB-B840-A4F670A7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2EF-7ED0-42D5-AD71-CD01DA1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EAD-A8FC-4FD0-AE54-50A3078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3CF-C434-4132-BED4-843F61E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027C-4FEF-4AEA-98F0-6617C5B04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-Putnami meetod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C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klaus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ta sisaldab täpselt üht litera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al p (vastavalt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 on klauslite hulgas 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h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(vastavalt p) ei es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eski hulga S klausl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C on klauslite hulgas 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h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ta sisaldab literaali, mis on hulgas S pu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C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mingi aatom p esineb seal nii positiivselt kui 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iv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S mittetautoloogiliste klauslite hu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/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] tähistab klauslite hulka, mis saadakse hulgast S iga klausli 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eemaldamisel ning iga klausl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asendamisel klausliga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 tähistab klauslite hulka, mis saadakse hulgast S iga klausl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eemaldamisel ning iga klausli 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asendamisel klausliga C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-Putnami algorit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 klausl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Eemalda hulgast S kõik tautoloogilised klaus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 on tühi, vasta “kehtestatav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Kui S sisaldab tühja klauslit, vasta “vastuolu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 sisaldab puhast klauslit, eemalda see hulgast S ja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Kui S sisaldab ühikklauslit p (vastavalt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, siis asenda S hulgaga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 (vastav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ga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) ja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Muidu vali mingi hulgas S esinev lausesümbol p. Rakenda protseduuri rekursiivsel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kadele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 ja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. Vasta “vastuoluline”, kui mõlemad rekursiivse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ljakutsed tagastavad “vastuoluline”, vastasel korral “kehtestatav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a algoritm ise on väga lihtne, siis keskendub kiiremate algoritmide otsimine sellele, kuidas valida paremini hargnemissümbol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htne heuristi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 lausesümbol p, mis maksimeerib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kus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lite arv, kus p esineb positiivselt, ja n_ on klauslite arv, kus n esineb negatiiv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da esmalt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ning esmalt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n_ 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35:45Z</dcterms:created>
  <dc:creator>Tiina Zingel</dc:creator>
  <dc:description/>
  <dc:language>en-US</dc:language>
  <cp:lastModifiedBy>Tiina Zingel</cp:lastModifiedBy>
  <dcterms:modified xsi:type="dcterms:W3CDTF">2006-03-01T13:39:56Z</dcterms:modified>
  <cp:revision>1</cp:revision>
  <dc:subject/>
  <dc:title>Davis-Putnami meetod. </dc:title>
</cp:coreProperties>
</file>